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-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hra Pradesh: Escapando de la Trampa de los Pesticidas con la Gestión Sin Pestic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 colocación de “tablas pegajosas amarillas” atrapa a mosquitas blan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otos superiores e inferior izquierda:  “Plantas trampa” como sorgo, margaritas, ricino y maíz, atraen a los insectos plaga, alejándolos del algod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Foto inferior derecha: Trampa de feromonas para monitorear la abundancia de insectos plaga.  Con esta vigilancia los agricultores pueden ahorrarse tiempo y esfuerzo, al aplicar tratamientos a sus campos solo cuando realmente lo requier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ercheros atraen a pájaros que se alimentan de insectos, contribuyendo al control natural de pla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Mural educativo en un centro de capacitación sobre la Gestión Sin Pesticid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Insectos depredadores en acción, matando a insectos plagas del algod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 vermi-composta (composta con gusanos) produce un excelente abono orgánico utilizado en vez de los fertilizantes químic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amilia, la salud y la economía se vieron fortalecidas cuando la comunidad dejó de utilizar pesticidas quím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anza, experiencia y estabilidad económica ganada con la acción comunitaria permitió emprender nuevos proyectos y empres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de 3,000 aldeas en Andhra Pradesh han escapado de la trampa de los pesticid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gricultores utilizaban pesticidas químicos para controlar a las plagas del algod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uso pesado de los pesticidas químicos generó la resistencia a los pesticidas por parte de los insectos plaga y acabó con los depredadores naturales de dichos insectos, resultando en el uso cada vez más intenso de pesticidas quím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deudaron los agricultores por comprar más y más pesticidas que lograban cada vez menos cosecha.  Los pesticidas envenenaron a mucha gente, y los niños se vieron obligados a trabajar para pagar las deudas famili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organización civil demostró su concepto de Gestión Sin Pesticidas y convenció a un líder comunitario (el segundo de la derecha en la foto inferior) de intentarlo.  Cuando otros aldeanos notaron su éxito, también adoptaron la Gestión Sin Pesticidas y dentro de pocos años la aldea se libró de los pesticid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Visitantes a Punukula inspeccionan un campo de algodón con “plantas trampa” (en primer plano, a la derecha) para alejar a los insectos del algod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se de la Gestión Sin Pesticidas fue el uso del nim, un árbol de crecimiento rápido común en la India y pariente de la caoba.  El nim se protege de insectos produciendo una multitud de pesticidas naturales que funcionan de distintas maneras.  Repelen el desove, inhiben la eclosión e interfieren con el crecimiento.  De mayor importancia es el azadiractin del nim que obstruye la alimentación, matando de hambre a los insectos.  Dada la amplia gama de las defensas químicas del nim, los insectos no pueden desarrollar resistencia a sus defensas por simple mutación.  Y dado que las toxinas del nim evolucionaron específicamente contra insectos herbívoros, son inofensivos para humanos y otros animales, incluso para las aves e insectos que se alimentan de los insectos plaga.  De hecho el nim se ha utilizado durante siglos para proteger granos almacenados de insectos y en la producción de jabones, lociones y otros productos de higie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emillas del nim se muelen para formar un polvo que se remoja en agua y es aplicado al cultivo por lo menos cada 10 días.  El nim seco, aplicado a la tierra, mata plagas y patógenos en la tierra y funciona como fertilizante orgánico rico en nitrógeno.  El nim crece localmente y es fácil de procesar, así que su único costo es la mano de obra requerida para su preparación.  No requiere gasto de din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uso del nim es complementado por un arsenal de otros métodos de la Gestión Sin Pestici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 aplicación de una solución de chile y ajo, particularmente durante infestaciones severas, causa que los insectos plaga caigan de las plantas sin dañar a los insectos depredadores que se alimentan de las pla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 aplicación de una mezcla de orines y estiércol de vaca para combatir saltahojas, áfidos, </a:t>
            </a:r>
            <a:r>
              <a:rPr b="0" lang="es-MX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thrip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, y otros insectos.  Al mismo tiempo que esta mezcla funciona como fertilizante natural, la mezcla cubre las plantas disuadiendo el desove y obstruyendo su alim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 aplicación de un virus de ocurrencia natural que infecta </a:t>
            </a:r>
            <a:r>
              <a:rPr b="0" lang="es-MX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tton bollworm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.  El virus les es fatal, pero inofensivo a otras criaturas. Los agricultores pueden manejar esta “arma biológica” por si mismos recogiendo larvas infectadas, moliéndolas y haciendo una solución que es letal para esta pla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Plantando otros cultivos de “distracción” como el sorgo, caléndula, ricino y maíz alrededor para alejar a los insectos del algod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Removiendo y quemando las ramas con infestaciones sever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Monitoreando la abundancia de plagas observando las plantas, y utilizando feromonas baratas que atraen a las polillas de Bollworm para poder contabilizarlas.  Con esta vigilancia los agricultores pueden ahorrar tiempo y esfuerzo aplicando tratamientos solo cuando sean necesar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Colocando tablas amarillas cubiertas de grasa pegajosa para atrapar </a:t>
            </a:r>
            <a:r>
              <a:rPr b="0" lang="es-MX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whiteflie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y tablas blancas para atrapar </a:t>
            </a:r>
            <a:r>
              <a:rPr b="0" lang="es-MX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thrip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Prendiendo fogatas en noches sin luna para atraer y matar a la polilla de </a:t>
            </a:r>
            <a:r>
              <a:rPr b="0" lang="es-MX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Bollw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Instalando percheros en los sembradíos para atraer aves que coman insect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El arado profundo durante el verano para irrumpir el ciclo de vida de </a:t>
            </a:r>
            <a:r>
              <a:rPr b="0" lang="es-MX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bollworm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 y otras plagas cuyas larvas habitan en la tierr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8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Enriqueciendo la tierra con vermicomposta y estiércol para eliminar el gasto en fertilizantes químicos.  Esto los convirtió en agricultores orgánicos lo cual podría tener implicaciones para sus ingresos futuros, al expandirse el mercado del algodón orgáni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Preparando la solución de n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os métodos naturales para controlar plagas: una solución de chile y ajo (izquierda) y heces y orines de vacas (derech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Al aplicarse a las plantas, la solución de chile y ajo hace que los insectos plaga caigan de las hojas, pero sin dañar a los insectos que se alimentan de las pla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 mezcla de orines y heces aplicada a las plantas crea una cubierta áspera que inhibe la alimentación y desove de los insectos plaga, al mismo tiempo que fertiliza las plant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915C-80A7-4CF4-9A47-062B3127C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F87F-F0DD-4B8F-8EF9-EB1312A32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B107-A262-444D-8C80-71C8DE402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C65C-BEBD-4D6F-9CB4-C5A05A6E5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7727-10AC-4539-85B3-24B79ECDF3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F8D9-82C3-49DC-8AE3-67612B2D5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FC1C-D741-4BD6-97CD-8F0832CB2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A9DE-14E9-4807-94B1-364CBF547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7791-4B4D-4664-B442-33A12BDBF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2EB3-E106-4591-BD17-650598439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C233-7791-47A5-90FB-1F8041248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4118-CBCC-4A10-A433-993DC0627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9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8680" y="6248520"/>
            <a:ext cx="312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07B6-C428-466A-A212-949D6949EE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23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533520" y="541440"/>
            <a:ext cx="8076960" cy="57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4800600" y="966960"/>
            <a:ext cx="4343400" cy="32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990720"/>
            <a:ext cx="4343400" cy="325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>
            <a:lum contrast="8000"/>
          </a:blip>
          <a:stretch/>
        </p:blipFill>
        <p:spPr>
          <a:xfrm>
            <a:off x="0" y="1219320"/>
            <a:ext cx="4383000" cy="3282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4765680" y="1219320"/>
            <a:ext cx="43783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04920" y="0"/>
            <a:ext cx="4038480" cy="3032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800600" y="0"/>
            <a:ext cx="4038480" cy="3032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2064" r="0" b="20756"/>
          <a:stretch/>
        </p:blipFill>
        <p:spPr>
          <a:xfrm>
            <a:off x="4800600" y="3811680"/>
            <a:ext cx="4038480" cy="3046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304920" y="382428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5"/>
          <a:srcRect l="0" t="0" r="3572" b="0"/>
          <a:stretch/>
        </p:blipFill>
        <p:spPr>
          <a:xfrm>
            <a:off x="0" y="0"/>
            <a:ext cx="4114800" cy="320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6"/>
          <a:stretch/>
        </p:blipFill>
        <p:spPr>
          <a:xfrm>
            <a:off x="4876920" y="0"/>
            <a:ext cx="4267080" cy="320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7"/>
          <a:srcRect l="0" t="0" r="4346" b="0"/>
          <a:stretch/>
        </p:blipFill>
        <p:spPr>
          <a:xfrm>
            <a:off x="0" y="3567240"/>
            <a:ext cx="4191120" cy="329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8">
            <a:lum contrast="4000"/>
          </a:blip>
          <a:srcRect l="0" t="0" r="0" b="19282"/>
          <a:stretch/>
        </p:blipFill>
        <p:spPr>
          <a:xfrm>
            <a:off x="4876920" y="3505320"/>
            <a:ext cx="42465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1219320"/>
            <a:ext cx="4267080" cy="320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752480"/>
            <a:ext cx="395604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rcRect l="0" t="0" r="8676" b="0"/>
          <a:stretch/>
        </p:blipFill>
        <p:spPr>
          <a:xfrm>
            <a:off x="432756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rcRect l="22671" t="2139" r="5329" b="0"/>
          <a:stretch/>
        </p:blipFill>
        <p:spPr>
          <a:xfrm>
            <a:off x="0" y="0"/>
            <a:ext cx="3657600" cy="310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3276720"/>
            <a:ext cx="3629160" cy="358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4251240" y="0"/>
            <a:ext cx="4892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rcRect l="2369" t="0" r="394" b="12950"/>
          <a:stretch/>
        </p:blipFill>
        <p:spPr>
          <a:xfrm>
            <a:off x="0" y="-34920"/>
            <a:ext cx="4670280" cy="574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rcRect l="0" t="0" r="28576" b="953"/>
          <a:stretch/>
        </p:blipFill>
        <p:spPr>
          <a:xfrm>
            <a:off x="5334120" y="0"/>
            <a:ext cx="3809880" cy="396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0" y="19080"/>
            <a:ext cx="5256360" cy="39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738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2438280"/>
            <a:ext cx="274320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19052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1523880" y="0"/>
            <a:ext cx="1195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rcRect l="0" t="0" r="0" b="15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981080" y="3144960"/>
            <a:ext cx="4953240" cy="3713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981080" y="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rcRect l="0" t="8820" r="0" b="0"/>
          <a:stretch/>
        </p:blipFill>
        <p:spPr>
          <a:xfrm>
            <a:off x="4343400" y="0"/>
            <a:ext cx="259092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4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131920" y="3487680"/>
            <a:ext cx="449748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28260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6400800" y="4800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3200400" y="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6858000" y="2286000"/>
            <a:ext cx="2286000" cy="217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2743200" y="22860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6"/>
          <a:stretch/>
        </p:blipFill>
        <p:spPr>
          <a:xfrm>
            <a:off x="2743200" y="480996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7"/>
          <a:srcRect l="0" t="0" r="8329" b="0"/>
          <a:stretch/>
        </p:blipFill>
        <p:spPr>
          <a:xfrm>
            <a:off x="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8"/>
          <a:srcRect l="4406" t="8128" r="5079" b="11296"/>
          <a:stretch/>
        </p:blipFill>
        <p:spPr>
          <a:xfrm>
            <a:off x="-4680" y="2279520"/>
            <a:ext cx="1700280" cy="2210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9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-88920" y="1512720"/>
            <a:ext cx="2747880" cy="3662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3581280" y="1523880"/>
            <a:ext cx="5562720" cy="367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3581280" y="1523880"/>
            <a:ext cx="5562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ffice 2004 Test Drive User</dc:creator>
  <dc:description/>
  <dc:language>en-US</dc:language>
  <cp:lastModifiedBy>Gerry Marten</cp:lastModifiedBy>
  <dcterms:modified xsi:type="dcterms:W3CDTF">2010-10-08T23:23:49Z</dcterms:modified>
  <cp:revision>2</cp:revision>
  <dc:subject/>
  <dc:title>Apo Island</dc:title>
</cp:coreProperties>
</file>